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D056-26DA-42B5-9DF8-64354A664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62AD-5176-4053-9BD3-F273DF33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4804-0D60-45D8-80EB-B0EEFF2AF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83EB-1714-498C-9B35-CF54A8F70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624A-26F1-4904-BBA5-41ABE4E8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4DE9-C4A5-422C-AA35-57800D9E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C163-8F0E-4806-AAE0-D7E3BC95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967E-8174-43A2-A816-D8F5235A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D5F2-3FB1-42BC-A4B7-7DDAAE60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6FCC-20D4-484F-AF8F-7AEFE344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113E-8B45-42AC-A135-EE7DB62D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0671-B249-479B-8749-8D2581A1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0323-AEDF-4EBF-8F1D-FE7505D3E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hemical Reactio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MPj03997850000[1]"/>
          <p:cNvPicPr/>
          <p:nvPr/>
        </p:nvPicPr>
        <p:blipFill>
          <a:blip r:embed="rId1"/>
          <a:stretch/>
        </p:blipFill>
        <p:spPr>
          <a:xfrm>
            <a:off x="2620800" y="2128680"/>
            <a:ext cx="3902400" cy="2600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MPj03997850000[1]"/>
          <p:cNvPicPr/>
          <p:nvPr/>
        </p:nvPicPr>
        <p:blipFill>
          <a:blip r:embed="rId2"/>
          <a:stretch/>
        </p:blipFill>
        <p:spPr>
          <a:xfrm>
            <a:off x="1371600" y="2128680"/>
            <a:ext cx="6477120" cy="43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2Al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"/>
          <p:cNvSpPr/>
          <p:nvPr/>
        </p:nvSpPr>
        <p:spPr>
          <a:xfrm flipH="1">
            <a:off x="1981080" y="2895480"/>
            <a:ext cx="9907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"/>
          <p:cNvSpPr/>
          <p:nvPr/>
        </p:nvSpPr>
        <p:spPr>
          <a:xfrm>
            <a:off x="4800600" y="3200400"/>
            <a:ext cx="762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"/>
          <p:cNvSpPr/>
          <p:nvPr/>
        </p:nvSpPr>
        <p:spPr>
          <a:xfrm>
            <a:off x="6172200" y="3124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457200" y="42670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effic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4876920" y="41148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scrip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2590920" y="1828800"/>
            <a:ext cx="8380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4495680" y="2514600"/>
            <a:ext cx="533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5867280" y="2514600"/>
            <a:ext cx="6098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2"/>
          <p:cNvSpPr/>
          <p:nvPr/>
        </p:nvSpPr>
        <p:spPr>
          <a:xfrm>
            <a:off x="3429000" y="3962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"/>
          <p:cNvSpPr/>
          <p:nvPr/>
        </p:nvSpPr>
        <p:spPr>
          <a:xfrm flipH="1">
            <a:off x="3429000" y="3886200"/>
            <a:ext cx="9907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228600" y="563868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efficients will multiply by the subscripts….2x2….2x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Practice Counting A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Try Balancing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28600" y="1447920"/>
            <a:ext cx="8915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are not created or destroyed during a chemical reaction. Scientists know that there must be the same number of atoms on each side of a the equation. To balance the chemical equation, you must add coefficients to the different parts of the eq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ature of Reac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chemical reaction is when you create a new substance with unique physical and chemical propert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Na"/>
          <p:cNvPicPr/>
          <p:nvPr/>
        </p:nvPicPr>
        <p:blipFill>
          <a:blip r:embed="rId1"/>
          <a:stretch/>
        </p:blipFill>
        <p:spPr>
          <a:xfrm>
            <a:off x="228600" y="4267080"/>
            <a:ext cx="1790640" cy="1451160"/>
          </a:xfrm>
          <a:prstGeom prst="rect">
            <a:avLst/>
          </a:prstGeom>
          <a:ln w="0">
            <a:noFill/>
          </a:ln>
        </p:spPr>
      </p:pic>
      <p:sp>
        <p:nvSpPr>
          <p:cNvPr id="47" name="Line 7"/>
          <p:cNvSpPr/>
          <p:nvPr/>
        </p:nvSpPr>
        <p:spPr>
          <a:xfrm>
            <a:off x="2895480" y="4343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>
            <a:off x="2438280" y="47242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chlorine"/>
          <p:cNvPicPr/>
          <p:nvPr/>
        </p:nvPicPr>
        <p:blipFill>
          <a:blip r:embed="rId2"/>
          <a:stretch/>
        </p:blipFill>
        <p:spPr>
          <a:xfrm>
            <a:off x="3429000" y="40384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salt"/>
          <p:cNvPicPr/>
          <p:nvPr/>
        </p:nvPicPr>
        <p:blipFill>
          <a:blip r:embed="rId3"/>
          <a:stretch/>
        </p:blipFill>
        <p:spPr>
          <a:xfrm>
            <a:off x="6400800" y="3809880"/>
            <a:ext cx="2362320" cy="1882800"/>
          </a:xfrm>
          <a:prstGeom prst="rect">
            <a:avLst/>
          </a:prstGeom>
          <a:ln w="0">
            <a:noFill/>
          </a:ln>
        </p:spPr>
      </p:pic>
      <p:sp>
        <p:nvSpPr>
          <p:cNvPr id="51" name="Line 16"/>
          <p:cNvSpPr/>
          <p:nvPr/>
        </p:nvSpPr>
        <p:spPr>
          <a:xfrm>
            <a:off x="5334120" y="48006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Reaction Represen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mists use symbols to represent what happens in a chemical reac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representation is called a    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hemical equa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609480" y="5410080"/>
            <a:ext cx="76201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a    +    Cl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5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NaC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sodium chloride"/>
          <p:cNvPicPr/>
          <p:nvPr/>
        </p:nvPicPr>
        <p:blipFill>
          <a:blip r:embed="rId1"/>
          <a:stretch/>
        </p:blipFill>
        <p:spPr>
          <a:xfrm>
            <a:off x="5410080" y="3352680"/>
            <a:ext cx="341964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arts of an Equ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ct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going into the eq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ming out of the eq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aw of Conservation of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oms cannot be created or destroyed. The mass of the reactants entering the equation must equal the mass of the products exiting the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hat goes in, must come out!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rts of an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8991720" cy="739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row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ields” (“creates”, “produces”, “equals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b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ttle number after the element that tells how many of each element is pre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alence Charge (aka…oxidation numb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harge represented in the chemical equation to represent how the element will react with the other react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rts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an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effici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g number written before the elements when balancing the chemical equ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HC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A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presentation of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diatomic elements) Gases are always written with a subscript of 2 when they are alone in the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arts of an Equ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the pa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Al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+     3S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1295280" y="297180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"/>
          <p:cNvSpPr/>
          <p:nvPr/>
        </p:nvSpPr>
        <p:spPr>
          <a:xfrm flipH="1">
            <a:off x="1066320" y="3429000"/>
            <a:ext cx="3812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>
            <a:off x="1600200" y="342900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>
            <a:off x="1600200" y="358128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3733920" y="3581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5105520" y="2971800"/>
            <a:ext cx="5331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 flipV="1">
            <a:off x="5410080" y="25909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1"/>
          <p:cNvSpPr/>
          <p:nvPr/>
        </p:nvSpPr>
        <p:spPr>
          <a:xfrm>
            <a:off x="7010280" y="35812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2"/>
          <p:cNvSpPr/>
          <p:nvPr/>
        </p:nvSpPr>
        <p:spPr>
          <a:xfrm>
            <a:off x="70866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4"/>
          <p:cNvSpPr/>
          <p:nvPr/>
        </p:nvSpPr>
        <p:spPr>
          <a:xfrm>
            <a:off x="7772400" y="3733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228600" y="4419720"/>
            <a:ext cx="1981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effici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2819520" y="45720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7"/>
          <p:cNvSpPr/>
          <p:nvPr/>
        </p:nvSpPr>
        <p:spPr>
          <a:xfrm>
            <a:off x="4419720" y="22096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ence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8"/>
          <p:cNvSpPr/>
          <p:nvPr/>
        </p:nvSpPr>
        <p:spPr>
          <a:xfrm>
            <a:off x="7162920" y="44956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9"/>
          <p:cNvSpPr/>
          <p:nvPr/>
        </p:nvSpPr>
        <p:spPr>
          <a:xfrm>
            <a:off x="6248520" y="32767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5715000" y="54100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1"/>
          <p:cNvSpPr/>
          <p:nvPr/>
        </p:nvSpPr>
        <p:spPr>
          <a:xfrm>
            <a:off x="7467480" y="3200400"/>
            <a:ext cx="3049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2"/>
          <p:cNvSpPr/>
          <p:nvPr/>
        </p:nvSpPr>
        <p:spPr>
          <a:xfrm>
            <a:off x="8001000" y="3276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5"/>
          <p:cNvSpPr/>
          <p:nvPr/>
        </p:nvSpPr>
        <p:spPr>
          <a:xfrm>
            <a:off x="7238880" y="2133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6"/>
          <p:cNvSpPr/>
          <p:nvPr/>
        </p:nvSpPr>
        <p:spPr>
          <a:xfrm flipV="1">
            <a:off x="7543800" y="251424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7"/>
          <p:cNvSpPr/>
          <p:nvPr/>
        </p:nvSpPr>
        <p:spPr>
          <a:xfrm flipH="1" flipV="1">
            <a:off x="8000640" y="259056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abel the Par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2Ag</a:t>
            </a:r>
            <a:r>
              <a:rPr b="0" lang="en-US" sz="3200" spc="-1" strike="noStrike" baseline="30000">
                <a:solidFill>
                  <a:srgbClr val="000000"/>
                </a:solidFill>
                <a:latin typeface="Book Antiqua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Book Antiqua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+  Mg</a:t>
            </a:r>
            <a:r>
              <a:rPr b="0" lang="en-US" sz="3200" spc="-1" strike="noStrike" baseline="30000">
                <a:solidFill>
                  <a:srgbClr val="000000"/>
                </a:solidFill>
                <a:latin typeface="Book Antiqua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Book Antiqua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2AgCl   +    Mg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Book Antiqua"/>
              </a:rPr>
              <a:t>Label Each of these in the above equation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oefficients = Squ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Valence Charge = Tri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ubscripts = Cir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Reactants = One Under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roducts = Two Under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Yields = Suns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lancing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ue to the law of conservation of mass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at goes in, must come out” of an eq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order to have the same number of atoms of each element that you started with…you must add coefficients. (big #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will place the coefficient in front of the symbol and will multiply by the subscrip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8T19:54:27Z</dcterms:created>
  <dc:creator>PSSD</dc:creator>
  <dc:description/>
  <dc:language>en-US</dc:language>
  <cp:lastModifiedBy>jcameron</cp:lastModifiedBy>
  <dcterms:modified xsi:type="dcterms:W3CDTF">2013-04-22T13:05:24Z</dcterms:modified>
  <cp:revision>5</cp:revision>
  <dc:subject/>
  <dc:title>Chemical Reactions</dc:title>
</cp:coreProperties>
</file>